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9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950400" y="738360"/>
            <a:ext cx="4907160" cy="3681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10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11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473A-766E-46BF-BF21-034743FC256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7A72D-767B-4F5A-8C73-99D4BE95E5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50760" y="738360"/>
            <a:ext cx="4907160" cy="36813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灯片编号占位符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34A1-C484-4F63-8C60-5B1A210B17E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A170-C979-4863-806F-2CC1A6ED2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9D18-6F13-4CE3-81A2-59070A477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3824-393B-4EE0-815A-D89458F50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2589-51C0-44C4-B881-7E17B9FE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AFFDFA-6EB0-43B3-A67E-53683FD2CB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E77CA3-7028-456D-8FC9-74D4C1D160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84174B-7766-4430-AA66-2524FEC4B29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04101D-4BCE-4DD3-A4E6-8873187EC02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7592C6-D4FF-4C50-9E5D-0A043DA0399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49069-24A4-40EA-94BB-29650CF046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F44EC-57A6-41EA-9AFB-4C6E83AD30A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DD4-8024-4016-8AF5-3023616C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FF3661-0E0B-4013-8F7C-6D3824BC0E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353B6-A79F-455B-8F61-A749430D29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386BA2-87B8-40C9-AD30-A472A98613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D92A7-3C11-49B9-A571-0C735C5B0A5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7F8B3E-2211-4DBC-B360-066C2745852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3D397-95BA-4105-B165-C7A3AC3DCDD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1A0BE-B178-48B5-A3F2-F48F55FAF6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E8607-5154-4AF1-8204-73AEFA5930E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C5F3F-7054-469D-A006-2A20B915419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7CAF1-7620-4D37-86C7-FA4063A35D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18E8-EF66-4A04-AE72-3C0FF560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E2E684-9910-4988-8702-C9BD4BF209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2CAD13-6173-4F1F-9469-51B7A90171A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289B8-063D-461E-BBF9-971745CA0C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18DAE1-223E-4F3D-82AD-0B62FB05A8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9C2A5-E91B-4F0C-86D0-762BBF64F60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7AFB3-D58D-4649-9998-BF6377E2A17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1CF605-648B-4BA4-B50F-FFDF97B0FD1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3EBCB8-1FF8-42A0-8C8A-DF1449E43AB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2BF332-8D52-4644-A2B0-9C0C329F8AF6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6CF518-7DC6-445D-AD30-C2A201AFC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0A4-4026-4CF9-9BAD-CAB53F7DF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FF85F-1A24-4189-98AC-8FE3E725F75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6FAFA8-0645-445A-9981-E1A42CC04C3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A1720-FAD9-4E07-808C-0F722435C3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9EA025-5869-4ADC-A41F-9AC874564B8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85186-0F87-46BA-B5FE-6B5D3B74EEE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8161B6-DAFB-4BC9-B353-5BC1C0553BF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71BD0-7C57-4D6B-83F8-D20994FAE2A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F26D88-6AAA-42ED-9140-5E95EAB6FFA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15167-C7AF-4AC7-BEFC-2169EC18F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6C38-41E0-472C-8BEB-BB2909252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972D-E4A1-4E18-8249-41676D800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447-57F8-43E7-B75D-79D9C197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5E11-BBD2-48AD-8E38-1E5D06AC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E771-2D2E-445E-B678-A46672DA7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51EA-1719-49EC-BEC5-10E2BE1D5BE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3416C-9FFA-45AA-9F70-34771B478F5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0375-7A8B-4813-8C7E-B7839D103622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B4A9-CD6A-43F9-880B-8633F37E0FB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5C58D-40EC-4CC3-8916-D8F1D05B2A06}" type="slidenum">
              <a:rPr b="0" lang="en-US" sz="16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Arial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ote Prefix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Draft 1. October 17, 201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Alex Afanasyev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anbiao L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A59A-EF7A-458A-B7B1-05506D59B435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ister “back-route(s)” on remote hub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own the registered prefix(e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NDN Testbed certificate delegates ownership for namesp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gister only when necess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at least one local app expects Interest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ggregate registr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local apps share user- or node-owned prefix(es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route(s)” should be maintai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te hubs keep only soft state f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fac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mote registration (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rocess should be transparent for ap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pps register only with local NR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n necessary, registrations further “propagate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506CF-EECC-4CAD-BD24-3E9633C6E32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2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华文隶书"/>
              </a:rPr>
              <a:t>Overview dia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1411-D1F5-486F-B818-4A72A5CC13DB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7"/>
          <p:cNvSpPr/>
          <p:nvPr/>
        </p:nvSpPr>
        <p:spPr>
          <a:xfrm>
            <a:off x="3747600" y="1066680"/>
            <a:ext cx="293760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p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nrd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63"/>
          <p:cNvSpPr/>
          <p:nvPr/>
        </p:nvSpPr>
        <p:spPr>
          <a:xfrm>
            <a:off x="6781680" y="129060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Remote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" name="肘形连接符 82"/>
          <p:cNvCxnSpPr/>
          <p:nvPr/>
        </p:nvCxnSpPr>
        <p:spPr>
          <a:xfrm flipH="1" rot="10800000">
            <a:off x="5410080" y="1599480"/>
            <a:ext cx="1395720" cy="1220040"/>
          </a:xfrm>
          <a:prstGeom prst="bentConnector3">
            <a:avLst>
              <a:gd name="adj1" fmla="val -59210"/>
            </a:avLst>
          </a:prstGeom>
          <a:ln w="28440">
            <a:solidFill>
              <a:srgbClr val="008000"/>
            </a:solidFill>
            <a:prstDash val="sysDot"/>
            <a:round/>
            <a:tailEnd len="med" type="arrow" w="med"/>
          </a:ln>
        </p:spPr>
      </p:cxnSp>
      <p:sp>
        <p:nvSpPr>
          <p:cNvPr id="178" name="矩形 63"/>
          <p:cNvSpPr/>
          <p:nvPr/>
        </p:nvSpPr>
        <p:spPr>
          <a:xfrm>
            <a:off x="3581280" y="2586240"/>
            <a:ext cx="1828800" cy="986040"/>
          </a:xfrm>
          <a:prstGeom prst="rect">
            <a:avLst/>
          </a:prstGeom>
          <a:solidFill>
            <a:srgbClr val="fcfbf9"/>
          </a:solidFill>
          <a:ln w="349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Local NFD/N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9" name="Straight Arrow Connector 2"/>
          <p:cNvCxnSpPr/>
          <p:nvPr/>
        </p:nvCxnSpPr>
        <p:spPr>
          <a:xfrm flipV="1">
            <a:off x="4647960" y="4038120"/>
            <a:ext cx="1080" cy="14486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0" name="Hexagon 3"/>
          <p:cNvSpPr/>
          <p:nvPr/>
        </p:nvSpPr>
        <p:spPr>
          <a:xfrm>
            <a:off x="1143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Hexagon 46"/>
          <p:cNvSpPr/>
          <p:nvPr/>
        </p:nvSpPr>
        <p:spPr>
          <a:xfrm>
            <a:off x="419112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Hexagon 47"/>
          <p:cNvSpPr/>
          <p:nvPr/>
        </p:nvSpPr>
        <p:spPr>
          <a:xfrm>
            <a:off x="6858000" y="5562720"/>
            <a:ext cx="849240" cy="609480"/>
          </a:xfrm>
          <a:prstGeom prst="hexagon">
            <a:avLst>
              <a:gd name="adj" fmla="val 25023"/>
              <a:gd name="vf" fmla="val 11547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rebuchet MS"/>
              </a:rPr>
              <a:t>Ap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8"/>
          <p:cNvCxnSpPr>
            <a:stCxn id="182" idx="0"/>
          </p:cNvCxnSpPr>
          <p:nvPr/>
        </p:nvCxnSpPr>
        <p:spPr>
          <a:xfrm flipH="1" flipV="1">
            <a:off x="5333760" y="4038120"/>
            <a:ext cx="16768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184" name="Straight Arrow Connector 50"/>
          <p:cNvCxnSpPr>
            <a:stCxn id="180" idx="0"/>
          </p:cNvCxnSpPr>
          <p:nvPr/>
        </p:nvCxnSpPr>
        <p:spPr>
          <a:xfrm flipV="1">
            <a:off x="1839600" y="4038120"/>
            <a:ext cx="1894680" cy="15249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185" name="Rectangle 7"/>
          <p:cNvSpPr/>
          <p:nvPr/>
        </p:nvSpPr>
        <p:spPr>
          <a:xfrm>
            <a:off x="63504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app1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5"/>
          <p:cNvSpPr/>
          <p:nvPr/>
        </p:nvSpPr>
        <p:spPr>
          <a:xfrm>
            <a:off x="3429000" y="4800600"/>
            <a:ext cx="220968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36"/>
          <p:cNvSpPr/>
          <p:nvPr/>
        </p:nvSpPr>
        <p:spPr>
          <a:xfrm>
            <a:off x="2743200" y="3668760"/>
            <a:ext cx="32385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nfd/rib/register/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6"/>
          <p:cNvSpPr/>
          <p:nvPr/>
        </p:nvSpPr>
        <p:spPr>
          <a:xfrm>
            <a:off x="5867280" y="4800600"/>
            <a:ext cx="2590920" cy="520200"/>
          </a:xfrm>
          <a:prstGeom prst="rect">
            <a:avLst/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400" spc="-1" strike="noStrike">
                <a:solidFill>
                  <a:srgbClr val="0000ff"/>
                </a:solidFill>
                <a:latin typeface="Calibri"/>
              </a:rPr>
              <a:t>/ndn/prefix/app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/KEY/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1"/>
          <p:cNvSpPr/>
          <p:nvPr/>
        </p:nvSpPr>
        <p:spPr>
          <a:xfrm>
            <a:off x="2819520" y="1868400"/>
            <a:ext cx="3581280" cy="642600"/>
          </a:xfrm>
          <a:prstGeom prst="rect">
            <a:avLst/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gister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gned: </a:t>
            </a:r>
            <a:r>
              <a:rPr b="0" lang="en-US" sz="1800" spc="-1" strike="noStrike">
                <a:solidFill>
                  <a:srgbClr val="0000ff"/>
                </a:solidFill>
                <a:latin typeface="Calibri"/>
              </a:rPr>
              <a:t>/ndn/prefi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800" spc="-1" strike="noStrike">
                <a:solidFill>
                  <a:srgbClr val="660066"/>
                </a:solidFill>
                <a:latin typeface="Calibri"/>
              </a:rPr>
              <a:t>/nr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/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cal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wns a set of keys/certificates, delegated from user namespa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key can be restricted/scoped for NRD operations on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...&gt;/KEY/&lt;...&gt;/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edu/ucla/cs/afanasev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hronocha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1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KEY</a:t>
            </a:r>
            <a:r>
              <a:rPr b="1" lang="en-US" sz="1900" spc="-1" strike="noStrike">
                <a:solidFill>
                  <a:srgbClr val="000000"/>
                </a:solidFill>
                <a:latin typeface="Calibri"/>
              </a:rPr>
              <a:t>/cawka1@gmail.com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rd/dsk-2/ID-CER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remote NR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/localhop registrations with proper trust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llow registrations for set of prefix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edu/ucl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/ndn/gues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7692-4B43-4228-BF96-49A5BA172F8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ight Brace 4"/>
          <p:cNvSpPr/>
          <p:nvPr/>
        </p:nvSpPr>
        <p:spPr>
          <a:xfrm>
            <a:off x="5562720" y="4800600"/>
            <a:ext cx="533160" cy="990720"/>
          </a:xfrm>
          <a:custGeom>
            <a:avLst/>
            <a:gdLst>
              <a:gd name="textAreaLeft" fmla="*/ 0 w 533160"/>
              <a:gd name="textAreaRight" fmla="*/ 192600 w 533160"/>
              <a:gd name="textAreaTop" fmla="*/ 13680 h 990720"/>
              <a:gd name="textAreaBottom" fmla="*/ 97704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5"/>
                  <a:pt x="10800" y="969"/>
                </a:cubicBezTo>
                <a:lnTo>
                  <a:pt x="10800" y="9831"/>
                </a:lnTo>
                <a:cubicBezTo>
                  <a:pt x="10800" y="10316"/>
                  <a:pt x="16200" y="10800"/>
                  <a:pt x="21600" y="10800"/>
                </a:cubicBezTo>
                <a:cubicBezTo>
                  <a:pt x="16200" y="10800"/>
                  <a:pt x="10800" y="11285"/>
                  <a:pt x="10800" y="11769"/>
                </a:cubicBezTo>
                <a:lnTo>
                  <a:pt x="10800" y="20631"/>
                </a:lnTo>
                <a:cubicBezTo>
                  <a:pt x="10800" y="2111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6172200" y="4800600"/>
            <a:ext cx="2438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ll be implemented in phase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phase 1, remote NRDs will process all regist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mote registration processing on local NR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calho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prefix registration for prefix &lt;P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keys, namespaces) &lt;- enumerate keys NRD ow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key defines “namespace” it us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we define the following convention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ey: /&lt;..1..&gt;/KEY/&lt;..2..&gt;/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&lt;dsk-id&gt;/ID-CER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amespace:  /&lt;..1..&gt;/&lt;..2..&gt;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&lt;KEY&gt;, &lt;PREFIX&gt;) &lt;- longest prefix match on key namespaces for &lt;P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f nothing found, 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&lt;PREIFX&gt; already register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&lt;EXTRA CHECK (seen next slide)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nd localhop registration for &lt;PREFIX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gn with &lt;KEY&gt;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hedule registration refresh for &lt;PREFIX&gt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RIB entry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dd &lt;PREFIX&gt; to the registered prefix set (?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5A54-67D2-45CB-BDE5-F6AF3D2C8BE4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 check during regi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ame namespace can be covered by multiple key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/alex/home/macbook/app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/alex/home/macbook/app1/KE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always use keys for the shortest namespace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hould we register multiple back routes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Should we unregister longer namespace when shorter is being registered?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5619-72DB-4424-B4B7-B6058B1EA2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华文隶书"/>
              </a:rPr>
              <a:t>Local NRD (unregister longer when necessary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幻灯片编号占位符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E3833-4CAF-4978-842A-30F29C781694}" type="slidenum">
              <a:rPr b="0" lang="en-US" sz="1600" spc="-1" strike="noStrike">
                <a:solidFill>
                  <a:srgbClr val="7f7f7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alibri"/>
              </a:rPr>
              <a:t>Remote Prefix Regist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直线箭头连接符 8"/>
          <p:cNvCxnSpPr/>
          <p:nvPr/>
        </p:nvCxnSpPr>
        <p:spPr>
          <a:xfrm>
            <a:off x="4343040" y="1295280"/>
            <a:ext cx="1080" cy="61056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sp>
        <p:nvSpPr>
          <p:cNvPr id="205" name="矩形 9"/>
          <p:cNvSpPr/>
          <p:nvPr/>
        </p:nvSpPr>
        <p:spPr>
          <a:xfrm>
            <a:off x="4386600" y="13716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equest (regi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5"/>
          <p:cNvSpPr/>
          <p:nvPr/>
        </p:nvSpPr>
        <p:spPr>
          <a:xfrm>
            <a:off x="2819520" y="1905120"/>
            <a:ext cx="312408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rmine prefix to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0"/>
          <p:cNvSpPr/>
          <p:nvPr/>
        </p:nvSpPr>
        <p:spPr>
          <a:xfrm>
            <a:off x="2819520" y="1981080"/>
            <a:ext cx="3047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菱形 11"/>
          <p:cNvSpPr/>
          <p:nvPr/>
        </p:nvSpPr>
        <p:spPr>
          <a:xfrm>
            <a:off x="2819520" y="2819520"/>
            <a:ext cx="3124080" cy="609480"/>
          </a:xfrm>
          <a:prstGeom prst="diamond">
            <a:avLst/>
          </a:pr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0000"/>
              </a:lnSpc>
              <a:spcAft>
                <a:spcPts val="1199"/>
              </a:spcAft>
              <a:tabLst>
                <a:tab algn="l" pos="0"/>
                <a:tab algn="l" pos="3946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2"/>
          <p:cNvSpPr/>
          <p:nvPr/>
        </p:nvSpPr>
        <p:spPr>
          <a:xfrm>
            <a:off x="3389400" y="2906640"/>
            <a:ext cx="204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er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13"/>
          <p:cNvSpPr/>
          <p:nvPr/>
        </p:nvSpPr>
        <p:spPr>
          <a:xfrm>
            <a:off x="4532760" y="23734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ef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1" name="直线箭头连接符 14"/>
          <p:cNvCxnSpPr>
            <a:stCxn id="206" idx="2"/>
            <a:endCxn id="208" idx="0"/>
          </p:cNvCxnSpPr>
          <p:nvPr/>
        </p:nvCxnSpPr>
        <p:spPr>
          <a:xfrm>
            <a:off x="4381200" y="2362320"/>
            <a:ext cx="1080" cy="45792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cxnSp>
        <p:nvCxnSpPr>
          <p:cNvPr id="212" name="肘形连接符 17"/>
          <p:cNvCxnSpPr>
            <a:stCxn id="208" idx="1"/>
            <a:endCxn id="213" idx="1"/>
          </p:cNvCxnSpPr>
          <p:nvPr/>
        </p:nvCxnSpPr>
        <p:spPr>
          <a:xfrm flipV="1" rot="10800000">
            <a:off x="2818800" y="3123000"/>
            <a:ext cx="13320" cy="2591640"/>
          </a:xfrm>
          <a:prstGeom prst="bentConnector3">
            <a:avLst>
              <a:gd name="adj1" fmla="val 11700000"/>
            </a:avLst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grpSp>
        <p:nvGrpSpPr>
          <p:cNvPr id="214" name="组 25"/>
          <p:cNvGrpSpPr/>
          <p:nvPr/>
        </p:nvGrpSpPr>
        <p:grpSpPr>
          <a:xfrm>
            <a:off x="2819520" y="4495680"/>
            <a:ext cx="3124080" cy="457200"/>
            <a:chOff x="2819520" y="4495680"/>
            <a:chExt cx="3124080" cy="457200"/>
          </a:xfrm>
        </p:grpSpPr>
        <p:sp>
          <p:nvSpPr>
            <p:cNvPr id="215" name="矩形 26"/>
            <p:cNvSpPr/>
            <p:nvPr/>
          </p:nvSpPr>
          <p:spPr>
            <a:xfrm>
              <a:off x="2819520" y="449568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矩形 27"/>
            <p:cNvSpPr/>
            <p:nvPr/>
          </p:nvSpPr>
          <p:spPr>
            <a:xfrm>
              <a:off x="2819520" y="457164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 28"/>
          <p:cNvGrpSpPr/>
          <p:nvPr/>
        </p:nvGrpSpPr>
        <p:grpSpPr>
          <a:xfrm>
            <a:off x="5486400" y="3657600"/>
            <a:ext cx="3581280" cy="456840"/>
            <a:chOff x="5486400" y="3657600"/>
            <a:chExt cx="3581280" cy="456840"/>
          </a:xfrm>
        </p:grpSpPr>
        <p:sp>
          <p:nvSpPr>
            <p:cNvPr id="218" name="矩形 29"/>
            <p:cNvSpPr/>
            <p:nvPr/>
          </p:nvSpPr>
          <p:spPr>
            <a:xfrm>
              <a:off x="5486400" y="3657600"/>
              <a:ext cx="3581280" cy="456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30"/>
            <p:cNvSpPr/>
            <p:nvPr/>
          </p:nvSpPr>
          <p:spPr>
            <a:xfrm>
              <a:off x="5486400" y="3733560"/>
              <a:ext cx="349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nregister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long_prefix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remotel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31"/>
          <p:cNvSpPr/>
          <p:nvPr/>
        </p:nvSpPr>
        <p:spPr>
          <a:xfrm>
            <a:off x="16200" y="2678040"/>
            <a:ext cx="377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shorter one (or the same)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2"/>
          <p:cNvSpPr/>
          <p:nvPr/>
        </p:nvSpPr>
        <p:spPr>
          <a:xfrm>
            <a:off x="5517000" y="2666880"/>
            <a:ext cx="34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longer on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ong_prefi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x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肘形连接符 33"/>
          <p:cNvCxnSpPr>
            <a:stCxn id="208" idx="3"/>
            <a:endCxn id="218" idx="0"/>
          </p:cNvCxnSpPr>
          <p:nvPr/>
        </p:nvCxnSpPr>
        <p:spPr>
          <a:xfrm>
            <a:off x="5943600" y="3124080"/>
            <a:ext cx="1334160" cy="53424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3" name="肘形连接符 36"/>
          <p:cNvCxnSpPr>
            <a:stCxn id="218" idx="2"/>
            <a:endCxn id="215" idx="3"/>
          </p:cNvCxnSpPr>
          <p:nvPr/>
        </p:nvCxnSpPr>
        <p:spPr>
          <a:xfrm rot="5400000">
            <a:off x="6305040" y="3752640"/>
            <a:ext cx="610200" cy="1334160"/>
          </a:xfrm>
          <a:prstGeom prst="bentConnector2">
            <a:avLst/>
          </a:prstGeom>
          <a:ln w="28440">
            <a:solidFill>
              <a:srgbClr val="339966"/>
            </a:solidFill>
            <a:round/>
            <a:tailEnd len="med" type="triangle" w="lg"/>
          </a:ln>
        </p:spPr>
      </p:cxnSp>
      <p:cxnSp>
        <p:nvCxnSpPr>
          <p:cNvPr id="224" name="直线箭头连接符 42"/>
          <p:cNvCxnSpPr>
            <a:stCxn id="208" idx="2"/>
            <a:endCxn id="215" idx="0"/>
          </p:cNvCxnSpPr>
          <p:nvPr/>
        </p:nvCxnSpPr>
        <p:spPr>
          <a:xfrm>
            <a:off x="4381200" y="3428640"/>
            <a:ext cx="1080" cy="106740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  <p:grpSp>
        <p:nvGrpSpPr>
          <p:cNvPr id="225" name="组 45"/>
          <p:cNvGrpSpPr/>
          <p:nvPr/>
        </p:nvGrpSpPr>
        <p:grpSpPr>
          <a:xfrm>
            <a:off x="2819520" y="5486400"/>
            <a:ext cx="3124080" cy="457200"/>
            <a:chOff x="2819520" y="5486400"/>
            <a:chExt cx="3124080" cy="457200"/>
          </a:xfrm>
        </p:grpSpPr>
        <p:sp>
          <p:nvSpPr>
            <p:cNvPr id="213" name="矩形 46"/>
            <p:cNvSpPr/>
            <p:nvPr/>
          </p:nvSpPr>
          <p:spPr>
            <a:xfrm>
              <a:off x="2819520" y="5486400"/>
              <a:ext cx="3124080" cy="4572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lnSpc>
                  <a:spcPct val="90000"/>
                </a:lnSpc>
                <a:spcAft>
                  <a:spcPts val="1199"/>
                </a:spcAft>
                <a:tabLst>
                  <a:tab algn="l" pos="0"/>
                  <a:tab algn="l" pos="394668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矩形 47"/>
            <p:cNvSpPr/>
            <p:nvPr/>
          </p:nvSpPr>
          <p:spPr>
            <a:xfrm>
              <a:off x="2819520" y="5562360"/>
              <a:ext cx="304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7" name="直线箭头连接符 50"/>
          <p:cNvCxnSpPr>
            <a:stCxn id="215" idx="2"/>
            <a:endCxn id="213" idx="0"/>
          </p:cNvCxnSpPr>
          <p:nvPr/>
        </p:nvCxnSpPr>
        <p:spPr>
          <a:xfrm>
            <a:off x="4381200" y="4952880"/>
            <a:ext cx="1080" cy="534240"/>
          </a:xfrm>
          <a:prstGeom prst="straightConnector1">
            <a:avLst/>
          </a:prstGeom>
          <a:ln w="28440">
            <a:solidFill>
              <a:srgbClr val="339966"/>
            </a:solidFill>
            <a:miter/>
            <a:tailEnd len="med" type="arrow" w="med"/>
          </a:ln>
        </p:spPr>
      </p:cxn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How remote registered prefix should be maintain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oft state on remote hub needs to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rt-term: re-register periodically (on-demand face timeout * 90%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ng-term: keep-alive + periodic face/rib que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connectivity changes, remote registered prefix should be refresh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R1 signal will be sent by an external to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RD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ould process USR1 signal and refresh all previously remotely registered prefix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en all local apps stops, remotely registered prefix should be unregiste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and face destroy should trigger clean up 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9C9F7-6DD1-4FDF-879E-E3A4AB1668E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eanup processing on local N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calhos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register for prefix &lt;P&gt; or and face destroy (local application stopp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f “/localhost”.isPrefixOf(&lt;P&gt;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 each registered prefix &lt;PREFIX&gt; in the registered prefix l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nd RIB entry that has prefix &lt;PREFIX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entry not fou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register &lt;PREFIX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ancel refresh eve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move from the registered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C601-56BC-4EB9-9835-3FB7A681D74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13:02:57Z</dcterms:created>
  <dc:creator>罗腊咏</dc:creator>
  <dc:description/>
  <dc:language>en-US</dc:language>
  <cp:lastModifiedBy>Alex Afanasyev</cp:lastModifiedBy>
  <dcterms:modified xsi:type="dcterms:W3CDTF">2014-10-17T20:03:15Z</dcterms:modified>
  <cp:revision>1586</cp:revision>
  <dc:subject/>
  <dc:title> Towards TCAM-based scalable virtual routers</dc:title>
</cp:coreProperties>
</file>